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0458A-E0F0-4A67-92FC-D0A004410960}" type="slidenum">
              <a:rPr b="0" lang="fr-FR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7D9E-7159-4AE2-A952-6C48F5C14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0F76-A757-4E74-B5A1-FB9ADB8D8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11EC-771E-41E8-B3F2-6CFA4E9345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21D4F-35C0-4AA4-8E59-056C24581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6F16F-C827-428A-A700-A637431F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EE1DC-ECEB-43F4-8207-769C13FC9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741A3-5DE0-4018-8576-E758DAD62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1D938-2CBB-42AD-AE67-738C6BB88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0EC5-542A-46DF-89A2-3989A7E11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F1E4-CD49-4739-9817-BEDC645EA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29914-F7C8-4868-9906-79061D9F6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4B79C-1D75-4714-BB48-471F7DFF7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2BAB1E-589A-4006-BB8D-EFBD9B601A74}" type="slidenum">
              <a:rPr b="0" lang="fr-FR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Fichier exemple : document Powerpoint 20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07T20:34:04Z</dcterms:created>
  <dc:creator/>
  <dc:description/>
  <dc:language>en-US</dc:language>
  <cp:lastModifiedBy/>
  <dcterms:modified xsi:type="dcterms:W3CDTF">2015-09-07T20:38:17Z</dcterms:modified>
  <cp:revision>3</cp:revision>
  <dc:subject/>
  <dc:title/>
</cp:coreProperties>
</file>